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au/imgres?imgurl=http://www.freesignage.co.uk/pdfthumbs/warning/beware_shallow_water_warning_sign.png&amp;imgrefurl=http://www.freesignage.co.uk/hazard_warning_signs.php&amp;usg=__P7KqBJAxuRO1xWyB4Qxt2H_UEpw=&amp;h=248&amp;w=188&amp;sz=13&amp;hl=en&amp;start=1&amp;tbnid=q9MJF_jq1MeP6M:&amp;tbnh=111&amp;tbnw=84&amp;prev=/images%3Fq%3DShallow%2Bwater%2Bsigns%26gbv%3D2%26hl%3De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15732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op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156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e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Makes a boat go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809640" y="5867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es With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n’t be stu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5205240" y="5856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no but a fish can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people Breathe under water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el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J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the little girl in Nemo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sn’t enough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738360" y="58910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eally Ba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ts too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ts too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are crocodiles not living in Victoria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h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eats plankton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09760" y="4871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a saying on a grave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 sea cr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type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rip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eep sea Cre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eaw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whale shark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colour is water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954000" y="603576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hallow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is mean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4" name="" descr="">
            <a:hlinkClick r:id="rId4"/>
          </p:cNvPr>
          <p:cNvPicPr/>
          <p:nvPr/>
        </p:nvPicPr>
        <p:blipFill>
          <a:blip r:embed="rId5"/>
          <a:srcRect l="-810" t="0" r="0" b="36159"/>
          <a:stretch/>
        </p:blipFill>
        <p:spPr>
          <a:xfrm>
            <a:off x="2558880" y="2416320"/>
            <a:ext cx="149868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elly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ing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nimal killed Steve Irwin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hale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5"/>
          <p:cNvSpPr/>
          <p:nvPr/>
        </p:nvSpPr>
        <p:spPr>
          <a:xfrm>
            <a:off x="906480" y="58784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ammer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eat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hite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iggest type of shark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ist in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need help at the beach what signal do you use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swim in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nly some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EVER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AT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l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water wet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0" y="4746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a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J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ull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wear in the water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6T03:49:24Z</dcterms:modified>
  <cp:revision>21</cp:revision>
  <dc:subject/>
  <dc:title>No Slide Title</dc:title>
</cp:coreProperties>
</file>